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4.jpeg" ContentType="image/jpeg"/>
  <Override PartName="/ppt/media/image3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CE586-A72B-492D-BB66-4A42CC6CB6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684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895D1-3FC8-43E1-A709-0C02DBA37A8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A1318-E7BB-4AE7-B173-5963F24E3D2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Vooks: E-novels with videos embedded – a break with the linearity of the boo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ADD01-AF97-4AE1-BE41-03BCAD7C219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34666-C8CE-4F0F-BCE8-2DDBF5060BE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AD32-9E9F-4B4B-B00C-B75266699DB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5E3E-581B-4413-BABB-5FB09DB62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70FC-A969-429F-8BA8-BEE3B2D50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248D-2BF7-4CC2-AAF6-8B994CA1F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41CC-0C1A-4D51-A9A5-9E4A10C06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A7C6E-0FCF-47DB-95EC-9F8008B12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CBE71-53A5-4BA9-AE74-02D045E76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1414F-2548-458F-ADF1-7D4F3ED5F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F6E65-0A63-4221-AD1C-2103CDC15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FD4A7-CE7A-499D-AF17-5151D101B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53B82-8481-4B7B-8DE9-9A5F5CB05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BECC9-0BC9-4EBB-8158-944ECAC1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3FBB-3C99-4FCD-9D2D-CFFDE6AE0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22511-C82C-4115-8171-ABA1C7CB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EF89C-66EA-4954-9442-399D3080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F2315-8B46-4E06-9D36-7418AB37B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45133-AD2F-4C5A-AB90-81841A5E2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2C8F0-4772-4D85-B00C-F9A2A2221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6533B-EB32-40FC-A32F-562E4C4A8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5AF16-9E5A-45DA-9DD8-655A4F8C3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011B9-44F0-4D87-A868-A7AD64EE4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84DC8-9534-4877-BCC2-80D191114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3482A-B405-473E-97B4-EC75CA6BD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23D6-74F8-4877-9435-BC16B0748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AD84D-2F01-4593-838D-20B3A7029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7BCEC-8E10-4490-96A4-89B72C6E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A090E-A157-4900-8571-EC365C05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86F76-0B8C-446A-8B19-EBB55032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8071A-B78D-4D6A-9EBE-A0B11B8D2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220BF-477E-4AA2-A384-5331F93B8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A6C10-92B2-4D28-B0ED-B79BD69B2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D5175-A71F-4AAB-AF82-B8303BA4D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497FE-2D3D-4564-A7FE-9E5D6E32F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7BAF9-C450-4419-AB3B-CD6982F39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BFA7-3A2F-4341-8C66-BC6E4A2E3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60CBE-73A4-4B64-8E88-8AB88AC25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6B7AF-D69F-45A0-A045-FD947D519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4C99F-CD92-49E7-9E75-EEBE74E93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FA68E-3A46-4888-808A-6A5C9543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E1D20-23E2-45BE-8FED-C54FD479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C4BEF-AF0B-42DC-89CC-1A2B105B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D12A9-B65B-4827-8D18-86F8F2C46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1F84E-7A04-4451-A213-9FB5A77D3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E9494-3DAE-4410-85B2-8FB801EBD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1B721-1E50-467D-B57E-7B4F5002A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0A5B-F007-4E53-8ED7-D6FFE5362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07AF1-E7C2-4AF2-B7D4-B7A49D9EF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6AF16-3951-4787-8E83-4CB3B7E8B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50CCE-AD2C-4F0B-8D95-B604A2BDF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A79D2-DA78-47DA-A423-63687EC87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FEDD4-C43E-4020-911C-18D14BA8A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4BACA-8181-4B93-8B4E-76F38FC2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B2E60-F4C0-4BE3-A6EC-ED27A5D9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096BC-D18C-4339-A651-A0DC4297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813A5-7DEA-4133-AB2E-B6A4DA609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41D3A-4583-4BFB-A7BC-F6B397016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4DDC-EC86-47E4-966E-80F738D2C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CEDE6-F219-4E72-B17C-497A9FDAE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8848DC-B398-44FE-A011-6E607AEC4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640D4-B742-4439-B80C-41516FB0B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A99D1F-0F5B-471D-99A5-05808647F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6A14D-CE0D-4970-B519-78347EFF4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D12E1-10D7-4D99-A3C4-75FA6ADD9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82FA5-B641-4703-BF64-9F50F20F2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5EE9B-6E39-460B-8209-FBE66467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11580-0638-4715-BF9A-EBFF3CE6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C6173-9D4A-48CB-B520-FA552274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4D14-4F16-4443-AAC9-D26BE68B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E23A1-3607-4BE4-93E5-2C35826C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AF645-E0C8-4C86-A0D2-9E0B7F334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1552D-472C-490F-A737-3E2D13E54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DA064-3681-4909-AEC8-900206B8F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F9FA4A-1531-4295-B707-2B513692D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CFF45B-8529-4AB2-81CC-EFE4C2656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76E71B-FE3C-43A3-9F15-1F52F865C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BCABA-2F11-48C5-9064-604549EF0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291CB-F6B0-4CCB-8852-F5B658521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75FF35-0E2C-456D-BD9A-B5B18A41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AF32-7F2A-400F-955F-1AB36B20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CE9A40-3D04-438C-9C74-FDD50E46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E0A82-9B57-413D-916D-F9CA7C85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FE657-576C-456C-86AF-B2B05FE0C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76986-3E92-47D0-99E7-F72A82412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B269A3-2709-4B95-8DD8-F518AD235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2D7D-A610-4CA9-8564-22962920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684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e4005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9c007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8007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005bd3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02F8E-4411-42FA-98EC-82592BB8F621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050AB-5146-4CEE-B573-A139ED535A0E}" type="slidenum">
              <a:rPr b="0" lang="en-A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684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e4005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9c007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8007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005bd3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DEC35-82B8-4AF3-B847-950E4D093F2A}" type="datetime">
              <a:rPr b="0" lang="en-US" sz="1200" spc="-1" strike="noStrike">
                <a:solidFill>
                  <a:srgbClr val="fffff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A2177-8A35-4D86-9E5E-9579166065E8}" type="slidenum">
              <a:rPr b="0" lang="en-A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684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e4005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9c007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8007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005bd3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19D10-E9CF-47F1-B88B-E62C9F378B25}" type="datetime">
              <a:rPr b="0" lang="en-US" sz="1200" spc="-1" strike="noStrike">
                <a:solidFill>
                  <a:srgbClr val="fffff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FCE49-268D-4102-8A1B-3D596361C093}" type="slidenum">
              <a:rPr b="0" lang="en-A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684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e4005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9c007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8007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005bd3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05EAA-A909-42AB-9A51-582884FC920C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7E4E1-3B2A-48C4-86EE-A5A77750F0EF}" type="slidenum">
              <a:rPr b="0" lang="en-A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684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e4005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9c007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8007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005bd3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5BAB5-EB93-4081-BF94-94597B96396A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D1693-CF37-4DB6-BF74-50E8CB592D28}" type="slidenum">
              <a:rPr b="0" lang="en-A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684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e4005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9c007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8007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005bd3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687C8-D0D9-4620-8A05-2AE2E3B1ED86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B916C-2AC9-4F43-A545-B6069CEA4D66}" type="slidenum">
              <a:rPr b="0" lang="en-A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684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0684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e4005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9c007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8007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005bd3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2C2F2-14D1-4DA4-B6E6-227E5F56FA01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F7A10-C182-4E2E-B142-C1719E6705D4}" type="slidenum">
              <a:rPr b="0" lang="en-A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hyperlink" Target="mailto:e.mcwilliam@qut.edu.au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682560" y="3352680"/>
            <a:ext cx="8089920" cy="168300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785880" y="2928960"/>
            <a:ext cx="8076960" cy="21859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b8f2"/>
                </a:solidFill>
                <a:latin typeface="Corbel"/>
              </a:rPr>
              <a:t>Leading Learning in the 21st century: What’s new?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Corbel"/>
              </a:rPr>
              <a:t>Erica McWilliam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orbel"/>
              </a:rPr>
              <a:t>Independent and Catholic Education Professional Development Program, Adelaide Pavilion, Veale Gardens, South Terrace, Adelaide, 27 May, 2011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12" name="Picture 3" descr="CCILogo-CW small.jpg"/>
          <p:cNvPicPr/>
          <p:nvPr/>
        </p:nvPicPr>
        <p:blipFill>
          <a:blip r:embed="rId2"/>
          <a:stretch/>
        </p:blipFill>
        <p:spPr>
          <a:xfrm>
            <a:off x="3276720" y="5410080"/>
            <a:ext cx="2514600" cy="11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-360" y="1642680"/>
            <a:ext cx="6286680" cy="44830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judgment on achievement of  </a:t>
            </a:r>
            <a:r>
              <a:rPr b="1" i="1" lang="en-US" sz="3200" spc="-1" strike="noStrike">
                <a:solidFill>
                  <a:srgbClr val="ff71e5"/>
                </a:solidFill>
                <a:latin typeface="Corbel"/>
              </a:rPr>
              <a:t>performance goals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s made by other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ile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71e5"/>
                </a:solidFill>
                <a:latin typeface="Corbel"/>
              </a:rPr>
              <a:t>learning goals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equire meta-cognition &amp;  self-regula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Rectangle 3"/>
          <p:cNvSpPr/>
          <p:nvPr/>
        </p:nvSpPr>
        <p:spPr>
          <a:xfrm>
            <a:off x="1071720" y="0"/>
            <a:ext cx="730872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1e5"/>
                </a:solidFill>
                <a:latin typeface="Corbel"/>
              </a:rPr>
              <a:t>Learning or Performing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6" descr="C:\Documents and Settings\mwl\Local Settings\Temporary Internet Files\Content.IE5\U0JNO8ZL\MP900439517[1].jpg"/>
          <p:cNvPicPr/>
          <p:nvPr/>
        </p:nvPicPr>
        <p:blipFill>
          <a:blip r:embed="rId1"/>
          <a:stretch/>
        </p:blipFill>
        <p:spPr>
          <a:xfrm>
            <a:off x="6286680" y="2928960"/>
            <a:ext cx="285732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 txBox="1"/>
          <p:nvPr/>
        </p:nvSpPr>
        <p:spPr>
          <a:xfrm>
            <a:off x="357120" y="78588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A 50/50 ratio of attention to learning and to performing is idea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0" name="Picture 6" descr="C:\Users\Public\_New docos\Anecdote materials\china-internet-cafe.jpg"/>
          <p:cNvPicPr/>
          <p:nvPr/>
        </p:nvPicPr>
        <p:blipFill>
          <a:blip r:embed="rId2"/>
          <a:stretch/>
        </p:blipFill>
        <p:spPr>
          <a:xfrm>
            <a:off x="2357280" y="3214800"/>
            <a:ext cx="507852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Title 3" descr=""/>
          <p:cNvPicPr/>
          <p:nvPr/>
        </p:nvPicPr>
        <p:blipFill>
          <a:blip r:embed="rId1"/>
          <a:stretch/>
        </p:blipFill>
        <p:spPr>
          <a:xfrm>
            <a:off x="396720" y="146160"/>
            <a:ext cx="8386920" cy="126180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 txBox="1"/>
          <p:nvPr/>
        </p:nvSpPr>
        <p:spPr>
          <a:xfrm>
            <a:off x="457200" y="1571400"/>
            <a:ext cx="4038480" cy="4825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cc00ff"/>
                </a:solidFill>
                <a:latin typeface="Corbel"/>
              </a:rPr>
              <a:t>‘</a:t>
            </a:r>
            <a:r>
              <a:rPr b="1" lang="en-AU" sz="2800" spc="-1" strike="noStrike">
                <a:solidFill>
                  <a:srgbClr val="cc00ff"/>
                </a:solidFill>
                <a:latin typeface="Corbel"/>
              </a:rPr>
              <a:t>Coverage’ cultur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rbel"/>
              </a:rPr>
              <a:t>Content-drive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rbel"/>
              </a:rPr>
              <a:t>Test-oriente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rbel"/>
              </a:rPr>
              <a:t>Packaged in advanc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rbel"/>
              </a:rPr>
              <a:t>Pencil and pap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rbel"/>
              </a:rPr>
              <a:t>Imitative routin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rbel"/>
              </a:rPr>
              <a:t>Credential is the prize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648320" y="1500120"/>
            <a:ext cx="4038480" cy="48974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cc00ff"/>
                </a:solidFill>
                <a:latin typeface="Corbel"/>
              </a:rPr>
              <a:t>  </a:t>
            </a:r>
            <a:r>
              <a:rPr b="1" lang="en-AU" sz="2800" spc="-1" strike="noStrike">
                <a:solidFill>
                  <a:srgbClr val="cc00ff"/>
                </a:solidFill>
                <a:latin typeface="Corbel"/>
              </a:rPr>
              <a:t>Learning cultur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rbel"/>
              </a:rPr>
              <a:t>Capacity building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rbel"/>
              </a:rPr>
              <a:t>Personalise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rbel"/>
              </a:rPr>
              <a:t>Self-manage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rbel"/>
              </a:rPr>
              <a:t>Focus is on the journe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rbel"/>
              </a:rPr>
              <a:t>Virtual and ‘real’ have equal statu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rbel"/>
              </a:rPr>
              <a:t>Open-ende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rbel"/>
              </a:rPr>
              <a:t>Creativ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Curved Right Arrow 7"/>
          <p:cNvSpPr/>
          <p:nvPr/>
        </p:nvSpPr>
        <p:spPr>
          <a:xfrm>
            <a:off x="2643120" y="2071800"/>
            <a:ext cx="1303560" cy="928440"/>
          </a:xfrm>
          <a:custGeom>
            <a:avLst/>
            <a:gdLst>
              <a:gd name="textAreaLeft" fmla="*/ 174600 w 1303560"/>
              <a:gd name="textAreaRight" fmla="*/ 1128960 w 1303560"/>
              <a:gd name="textAreaTop" fmla="*/ 145080 h 928440"/>
              <a:gd name="textAreaBottom" fmla="*/ 667440 h 92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3594871"/>
                <a:lnTo>
                  <a:pt x="17752" y="21492"/>
                </a:lnTo>
                <a:lnTo>
                  <a:pt x="21600" y="16200"/>
                </a:lnTo>
                <a:lnTo>
                  <a:pt x="17752" y="10692"/>
                </a:lnTo>
                <a:lnTo>
                  <a:pt x="17752" y="13392"/>
                </a:lnTo>
                <a:arcTo wR="21600" hR="6750" stAng="7205129" swAng="3128885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cc00ff"/>
          </a:solidFill>
          <a:ln w="4788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Curved Left Arrow 8"/>
          <p:cNvSpPr/>
          <p:nvPr/>
        </p:nvSpPr>
        <p:spPr>
          <a:xfrm>
            <a:off x="4357800" y="2071800"/>
            <a:ext cx="1214280" cy="928440"/>
          </a:xfrm>
          <a:custGeom>
            <a:avLst/>
            <a:gdLst>
              <a:gd name="textAreaLeft" fmla="*/ 162720 w 1214280"/>
              <a:gd name="textAreaRight" fmla="*/ 1051560 w 1214280"/>
              <a:gd name="textAreaTop" fmla="*/ 145080 h 928440"/>
              <a:gd name="textAreaBottom" fmla="*/ 66744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484141"/>
                <a:lnTo>
                  <a:pt x="4129" y="21476"/>
                </a:lnTo>
                <a:lnTo>
                  <a:pt x="0" y="16200"/>
                </a:lnTo>
                <a:lnTo>
                  <a:pt x="4129" y="10676"/>
                </a:lnTo>
                <a:lnTo>
                  <a:pt x="4129" y="13376"/>
                </a:lnTo>
                <a:arcTo wR="21600" hR="6750" stAng="3484141" swAng="-3018155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cc00ff"/>
          </a:solidFill>
          <a:ln w="4788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P91"/>
          <p:cNvPicPr/>
          <p:nvPr/>
        </p:nvPicPr>
        <p:blipFill>
          <a:blip r:embed="rId1"/>
          <a:stretch/>
        </p:blipFill>
        <p:spPr>
          <a:xfrm>
            <a:off x="1905120" y="990720"/>
            <a:ext cx="5398920" cy="365760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3"/>
          <p:cNvSpPr/>
          <p:nvPr/>
        </p:nvSpPr>
        <p:spPr>
          <a:xfrm>
            <a:off x="0" y="4952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  ‘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He’ll be ok – he’s just seen the National Curriculum documents...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Rectang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6180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4000"/>
          </a:bodyPr>
          <a:p>
            <a:pPr marL="367920" indent="-26784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High cognitive demand environment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7920" indent="-26784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Clarify and share explicit learning intentions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7920" indent="-26784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Obligatory engagement – no opting out, no ‘hands up’ except to ques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7920" indent="-26784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Questions/statements that ‘cause’ think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7920" indent="-26784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Practise designing tests, not just doing them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7920" indent="-26784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Formative assessment to feed forwar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7920" indent="-26784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Students work harder than teacher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7920" indent="-26784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Broad and deep learning tasks – e-portfolios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7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402840" indent="-29340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Re-thinking creativity and innova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Educational practices – less of, more of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E-shift – plural, power browsing readership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Flattening hierarchies of leadership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Networking and brokering capacit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Creative living, learning and earning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Learning and Performing goals are differ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Competing cultures – coverage or learning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High challenge pedagogy – actually doing i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Title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296640" cy="1266840"/>
          </a:xfrm>
          <a:prstGeom prst="rect">
            <a:avLst/>
          </a:prstGeom>
          <a:ln w="0">
            <a:noFill/>
          </a:ln>
        </p:spPr>
      </p:pic>
      <p:pic>
        <p:nvPicPr>
          <p:cNvPr id="393" name="Content Placeholder 5" descr="Creative Workforce book cover.jpg"/>
          <p:cNvPicPr/>
          <p:nvPr/>
        </p:nvPicPr>
        <p:blipFill>
          <a:blip r:embed="rId2"/>
          <a:stretch/>
        </p:blipFill>
        <p:spPr>
          <a:xfrm>
            <a:off x="6215040" y="2000160"/>
            <a:ext cx="2590920" cy="400068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4"/>
          <p:cNvSpPr/>
          <p:nvPr/>
        </p:nvSpPr>
        <p:spPr>
          <a:xfrm>
            <a:off x="357120" y="1785960"/>
            <a:ext cx="571500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Contact email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 u="sng">
                <a:solidFill>
                  <a:srgbClr val="17bbfd"/>
                </a:solidFill>
                <a:uFillTx/>
                <a:latin typeface="Arial"/>
                <a:hlinkClick r:id="rId3"/>
              </a:rPr>
              <a:t>e.mcwilliam@qut.edu.a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 u="sng">
                <a:solidFill>
                  <a:srgbClr val="ff0000"/>
                </a:solidFill>
                <a:uFillTx/>
                <a:latin typeface="Arial"/>
              </a:rPr>
              <a:t>peter.g.taylor@live.com.a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314" name="Content Placeholder 4" descr="http://chccsgradproject.pbworks.com/f/graduation.jpg"/>
          <p:cNvPicPr/>
          <p:nvPr/>
        </p:nvPicPr>
        <p:blipFill>
          <a:blip r:embed="rId2"/>
          <a:stretch/>
        </p:blipFill>
        <p:spPr>
          <a:xfrm>
            <a:off x="500040" y="1428840"/>
            <a:ext cx="835812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493560" y="249120"/>
            <a:ext cx="8242560" cy="140364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71e5"/>
                </a:solidFill>
                <a:latin typeface="GillSans"/>
              </a:rPr>
              <a:t>Myth</a:t>
            </a: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	</a:t>
            </a:r>
            <a:r>
              <a:rPr b="1" lang="en-GB" sz="2800" spc="-1" strike="noStrike">
                <a:solidFill>
                  <a:srgbClr val="ff71e5"/>
                </a:solidFill>
                <a:latin typeface="GillSans"/>
              </a:rPr>
              <a:t>Realit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Flash of insight</a:t>
            </a: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Comes from immersion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Brilliant idea</a:t>
            </a: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Fail often but early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Individualistic</a:t>
            </a: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Collaborative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New knowledge</a:t>
            </a: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Admitting ignorance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Invention</a:t>
            </a: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Mostly development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Originality</a:t>
            </a: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Borrowing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Look to the future</a:t>
            </a: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Look sideways and backward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All about learning</a:t>
            </a: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Unlearning just as vital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Internal R &amp; D</a:t>
            </a: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Networked, open innovation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Product pipeline</a:t>
            </a: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Sans"/>
              </a:rPr>
              <a:t>Consumers as innovators (prod-users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4" marL="1254240" indent="-1605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254240" indent="-1605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Corbel"/>
              </a:rPr>
              <a:t>Charlie Leadbeate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Rectangle 3" descr=""/>
          <p:cNvPicPr/>
          <p:nvPr/>
        </p:nvPicPr>
        <p:blipFill>
          <a:blip r:embed="rId1"/>
          <a:stretch/>
        </p:blipFill>
        <p:spPr>
          <a:xfrm>
            <a:off x="566640" y="208080"/>
            <a:ext cx="8139240" cy="1352520"/>
          </a:xfrm>
          <a:prstGeom prst="rect">
            <a:avLst/>
          </a:prstGeom>
          <a:ln w="0">
            <a:noFill/>
          </a:ln>
        </p:spPr>
      </p:pic>
      <p:grpSp>
        <p:nvGrpSpPr>
          <p:cNvPr id="319" name="Group 4"/>
          <p:cNvGrpSpPr/>
          <p:nvPr/>
        </p:nvGrpSpPr>
        <p:grpSpPr>
          <a:xfrm>
            <a:off x="838080" y="1714680"/>
            <a:ext cx="3019680" cy="4469760"/>
            <a:chOff x="838080" y="1714680"/>
            <a:chExt cx="3019680" cy="4469760"/>
          </a:xfrm>
        </p:grpSpPr>
        <p:sp>
          <p:nvSpPr>
            <p:cNvPr id="320" name="Text Box 5"/>
            <p:cNvSpPr/>
            <p:nvPr/>
          </p:nvSpPr>
          <p:spPr>
            <a:xfrm>
              <a:off x="1270080" y="1714680"/>
              <a:ext cx="865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b8f2"/>
                  </a:solidFill>
                  <a:latin typeface="Corbel"/>
                </a:rPr>
                <a:t>Les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6"/>
            <p:cNvSpPr/>
            <p:nvPr/>
          </p:nvSpPr>
          <p:spPr>
            <a:xfrm>
              <a:off x="992520" y="2416320"/>
              <a:ext cx="229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Corbel"/>
                </a:rPr>
                <a:t>Rote Memoris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7"/>
            <p:cNvSpPr/>
            <p:nvPr/>
          </p:nvSpPr>
          <p:spPr>
            <a:xfrm>
              <a:off x="1000440" y="4976640"/>
              <a:ext cx="27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rbel"/>
                </a:rPr>
                <a:t>Mandated Curriculum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8"/>
            <p:cNvSpPr/>
            <p:nvPr/>
          </p:nvSpPr>
          <p:spPr>
            <a:xfrm>
              <a:off x="1000440" y="3959280"/>
              <a:ext cx="175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Corbel"/>
                </a:rPr>
                <a:t>Complia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9"/>
            <p:cNvSpPr/>
            <p:nvPr/>
          </p:nvSpPr>
          <p:spPr>
            <a:xfrm>
              <a:off x="1081800" y="4449600"/>
              <a:ext cx="116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Corbel"/>
                </a:rPr>
                <a:t>Imi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10"/>
            <p:cNvSpPr/>
            <p:nvPr/>
          </p:nvSpPr>
          <p:spPr>
            <a:xfrm>
              <a:off x="838080" y="3413160"/>
              <a:ext cx="278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rbel"/>
                </a:rPr>
                <a:t>Teacher-driven activity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1"/>
            <p:cNvSpPr/>
            <p:nvPr/>
          </p:nvSpPr>
          <p:spPr>
            <a:xfrm>
              <a:off x="856080" y="2933640"/>
              <a:ext cx="259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Corbel"/>
                </a:rPr>
                <a:t>Control and comma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2"/>
            <p:cNvSpPr/>
            <p:nvPr/>
          </p:nvSpPr>
          <p:spPr>
            <a:xfrm>
              <a:off x="1000440" y="5541840"/>
              <a:ext cx="2857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Corbel"/>
                </a:rPr>
                <a:t>Competitive individualis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13"/>
          <p:cNvGrpSpPr/>
          <p:nvPr/>
        </p:nvGrpSpPr>
        <p:grpSpPr>
          <a:xfrm>
            <a:off x="4995360" y="1714680"/>
            <a:ext cx="3331080" cy="4197240"/>
            <a:chOff x="4995360" y="1714680"/>
            <a:chExt cx="3331080" cy="4197240"/>
          </a:xfrm>
        </p:grpSpPr>
        <p:sp>
          <p:nvSpPr>
            <p:cNvPr id="329" name="Rectangle 14"/>
            <p:cNvSpPr/>
            <p:nvPr/>
          </p:nvSpPr>
          <p:spPr>
            <a:xfrm>
              <a:off x="5672160" y="1714680"/>
              <a:ext cx="988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b8f2"/>
                  </a:solidFill>
                  <a:latin typeface="Corbel"/>
                </a:rPr>
                <a:t>Mo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15"/>
            <p:cNvSpPr/>
            <p:nvPr/>
          </p:nvSpPr>
          <p:spPr>
            <a:xfrm>
              <a:off x="5211720" y="2354400"/>
              <a:ext cx="311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Corbel"/>
                </a:rPr>
                <a:t>Problem-solv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16"/>
            <p:cNvSpPr/>
            <p:nvPr/>
          </p:nvSpPr>
          <p:spPr>
            <a:xfrm>
              <a:off x="5393160" y="4977000"/>
              <a:ext cx="202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Corbel"/>
                </a:rPr>
                <a:t>Learning to lear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17"/>
            <p:cNvSpPr/>
            <p:nvPr/>
          </p:nvSpPr>
          <p:spPr>
            <a:xfrm>
              <a:off x="5356800" y="3954600"/>
              <a:ext cx="142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Corbel"/>
                </a:rPr>
                <a:t>Co-cre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18"/>
            <p:cNvSpPr/>
            <p:nvPr/>
          </p:nvSpPr>
          <p:spPr>
            <a:xfrm>
              <a:off x="5378040" y="4451400"/>
              <a:ext cx="141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Corbel"/>
                </a:rPr>
                <a:t>Risk-tak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19"/>
            <p:cNvSpPr/>
            <p:nvPr/>
          </p:nvSpPr>
          <p:spPr>
            <a:xfrm>
              <a:off x="5435280" y="3440160"/>
              <a:ext cx="209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Corbel"/>
                </a:rPr>
                <a:t>Self-manage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20"/>
            <p:cNvSpPr/>
            <p:nvPr/>
          </p:nvSpPr>
          <p:spPr>
            <a:xfrm>
              <a:off x="5460120" y="2867040"/>
              <a:ext cx="253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Corbel"/>
                </a:rPr>
                <a:t>Direction and sup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21"/>
            <p:cNvSpPr/>
            <p:nvPr/>
          </p:nvSpPr>
          <p:spPr>
            <a:xfrm>
              <a:off x="4995360" y="5543640"/>
              <a:ext cx="326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Corbel"/>
                </a:rPr>
                <a:t>Dynamic team-based activ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Rectangle 2" descr=""/>
          <p:cNvPicPr/>
          <p:nvPr/>
        </p:nvPicPr>
        <p:blipFill>
          <a:blip r:embed="rId1"/>
          <a:stretch/>
        </p:blipFill>
        <p:spPr>
          <a:xfrm>
            <a:off x="-6480" y="-6480"/>
            <a:ext cx="8143920" cy="12988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49"/>
          <p:cNvSpPr/>
          <p:nvPr/>
        </p:nvSpPr>
        <p:spPr>
          <a:xfrm>
            <a:off x="250920" y="1571760"/>
            <a:ext cx="31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ilent singular r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50"/>
          <p:cNvSpPr/>
          <p:nvPr/>
        </p:nvSpPr>
        <p:spPr>
          <a:xfrm>
            <a:off x="4543560" y="157176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ading as a team 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51"/>
          <p:cNvSpPr/>
          <p:nvPr/>
        </p:nvSpPr>
        <p:spPr>
          <a:xfrm>
            <a:off x="250920" y="2071800"/>
            <a:ext cx="37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ading for enlighte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52"/>
          <p:cNvSpPr/>
          <p:nvPr/>
        </p:nvSpPr>
        <p:spPr>
          <a:xfrm>
            <a:off x="4572000" y="207180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ading for belong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53"/>
          <p:cNvSpPr/>
          <p:nvPr/>
        </p:nvSpPr>
        <p:spPr>
          <a:xfrm>
            <a:off x="257040" y="2571840"/>
            <a:ext cx="10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54"/>
          <p:cNvSpPr/>
          <p:nvPr/>
        </p:nvSpPr>
        <p:spPr>
          <a:xfrm>
            <a:off x="4572000" y="25718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Voo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55"/>
          <p:cNvSpPr/>
          <p:nvPr/>
        </p:nvSpPr>
        <p:spPr>
          <a:xfrm>
            <a:off x="250920" y="3071880"/>
            <a:ext cx="19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age-tu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56"/>
          <p:cNvSpPr/>
          <p:nvPr/>
        </p:nvSpPr>
        <p:spPr>
          <a:xfrm>
            <a:off x="4572000" y="314316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Key-t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57"/>
          <p:cNvSpPr/>
          <p:nvPr/>
        </p:nvSpPr>
        <p:spPr>
          <a:xfrm>
            <a:off x="285840" y="357192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-depth 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58"/>
          <p:cNvSpPr/>
          <p:nvPr/>
        </p:nvSpPr>
        <p:spPr>
          <a:xfrm>
            <a:off x="4572000" y="3643200"/>
            <a:ext cx="23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ower brow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59"/>
          <p:cNvSpPr/>
          <p:nvPr/>
        </p:nvSpPr>
        <p:spPr>
          <a:xfrm>
            <a:off x="250920" y="4000680"/>
            <a:ext cx="17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inear tex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60"/>
          <p:cNvSpPr/>
          <p:nvPr/>
        </p:nvSpPr>
        <p:spPr>
          <a:xfrm>
            <a:off x="4572000" y="4071960"/>
            <a:ext cx="263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inked fra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61"/>
          <p:cNvSpPr/>
          <p:nvPr/>
        </p:nvSpPr>
        <p:spPr>
          <a:xfrm>
            <a:off x="250920" y="4500720"/>
            <a:ext cx="367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ingle focus 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62"/>
          <p:cNvSpPr/>
          <p:nvPr/>
        </p:nvSpPr>
        <p:spPr>
          <a:xfrm>
            <a:off x="4572000" y="4572000"/>
            <a:ext cx="355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terruption 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63"/>
          <p:cNvSpPr/>
          <p:nvPr/>
        </p:nvSpPr>
        <p:spPr>
          <a:xfrm>
            <a:off x="250920" y="5000760"/>
            <a:ext cx="42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Oasis of bookish tranquil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65"/>
          <p:cNvSpPr/>
          <p:nvPr/>
        </p:nvSpPr>
        <p:spPr>
          <a:xfrm>
            <a:off x="4572000" y="5000760"/>
            <a:ext cx="39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pace of digital inter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ight Arrow 25"/>
          <p:cNvSpPr/>
          <p:nvPr/>
        </p:nvSpPr>
        <p:spPr>
          <a:xfrm>
            <a:off x="3564000" y="314172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cc00ff"/>
          </a:solidFill>
          <a:ln w="4788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27"/>
          <p:cNvSpPr/>
          <p:nvPr/>
        </p:nvSpPr>
        <p:spPr>
          <a:xfrm>
            <a:off x="285840" y="550080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Correct ans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28"/>
          <p:cNvSpPr/>
          <p:nvPr/>
        </p:nvSpPr>
        <p:spPr>
          <a:xfrm>
            <a:off x="4572000" y="542916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Better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Rectangle 2" descr=""/>
          <p:cNvPicPr/>
          <p:nvPr/>
        </p:nvPicPr>
        <p:blipFill>
          <a:blip r:embed="rId1"/>
          <a:stretch/>
        </p:blipFill>
        <p:spPr>
          <a:xfrm>
            <a:off x="701640" y="171360"/>
            <a:ext cx="7783560" cy="104796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856800" y="1785600"/>
            <a:ext cx="8286840" cy="44146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2"/>
          <a:srcRect l="478" t="15654" r="13728" b="50448"/>
          <a:stretch/>
        </p:blipFill>
        <p:spPr>
          <a:xfrm>
            <a:off x="0" y="2416320"/>
            <a:ext cx="9144000" cy="4441680"/>
          </a:xfrm>
          <a:prstGeom prst="rect">
            <a:avLst/>
          </a:prstGeom>
          <a:ln w="0">
            <a:noFill/>
          </a:ln>
        </p:spPr>
      </p:pic>
      <p:sp>
        <p:nvSpPr>
          <p:cNvPr id="361" name="TextBox 4"/>
          <p:cNvSpPr/>
          <p:nvPr/>
        </p:nvSpPr>
        <p:spPr>
          <a:xfrm>
            <a:off x="1069920" y="1428840"/>
            <a:ext cx="2443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and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  Econom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5"/>
          <p:cNvSpPr/>
          <p:nvPr/>
        </p:nvSpPr>
        <p:spPr>
          <a:xfrm>
            <a:off x="5173560" y="1428840"/>
            <a:ext cx="32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grpSp>
        <p:nvGrpSpPr>
          <p:cNvPr id="364" name="Group 4"/>
          <p:cNvGrpSpPr/>
          <p:nvPr/>
        </p:nvGrpSpPr>
        <p:grpSpPr>
          <a:xfrm>
            <a:off x="4572000" y="1500120"/>
            <a:ext cx="4357800" cy="5000760"/>
            <a:chOff x="4572000" y="1500120"/>
            <a:chExt cx="4357800" cy="5000760"/>
          </a:xfrm>
        </p:grpSpPr>
        <p:pic>
          <p:nvPicPr>
            <p:cNvPr id="365" name="Picture 5" descr="sociogram_wiki_paper"/>
            <p:cNvPicPr/>
            <p:nvPr/>
          </p:nvPicPr>
          <p:blipFill>
            <a:blip r:embed="rId2"/>
            <a:stretch/>
          </p:blipFill>
          <p:spPr>
            <a:xfrm>
              <a:off x="4572000" y="1500120"/>
              <a:ext cx="4357800" cy="5000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6" name="Group 6"/>
            <p:cNvGrpSpPr/>
            <p:nvPr/>
          </p:nvGrpSpPr>
          <p:grpSpPr>
            <a:xfrm>
              <a:off x="4572000" y="2819880"/>
              <a:ext cx="1784520" cy="791640"/>
              <a:chOff x="4572000" y="2819880"/>
              <a:chExt cx="1784520" cy="791640"/>
            </a:xfrm>
          </p:grpSpPr>
          <p:sp>
            <p:nvSpPr>
              <p:cNvPr id="367" name="Text Box 7"/>
              <p:cNvSpPr/>
              <p:nvPr/>
            </p:nvSpPr>
            <p:spPr>
              <a:xfrm>
                <a:off x="4572000" y="2819880"/>
                <a:ext cx="764640" cy="79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(A)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Line 8"/>
              <p:cNvSpPr/>
              <p:nvPr/>
            </p:nvSpPr>
            <p:spPr>
              <a:xfrm>
                <a:off x="5209200" y="3083760"/>
                <a:ext cx="1147320" cy="26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9" name="Rectangle 8"/>
          <p:cNvSpPr/>
          <p:nvPr/>
        </p:nvSpPr>
        <p:spPr>
          <a:xfrm>
            <a:off x="785880" y="2143080"/>
            <a:ext cx="3214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Not just skills and competencies, but skills and competencies embedded in networks of social/cultural ca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Rectangle 2" descr=""/>
          <p:cNvPicPr/>
          <p:nvPr/>
        </p:nvPicPr>
        <p:blipFill>
          <a:blip r:embed="rId1"/>
          <a:stretch/>
        </p:blipFill>
        <p:spPr>
          <a:xfrm>
            <a:off x="438120" y="158760"/>
            <a:ext cx="8242200" cy="120636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456840" y="1499760"/>
            <a:ext cx="4543560" cy="53578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spcBef>
                <a:spcPts val="1250"/>
              </a:spcBef>
              <a:spcAft>
                <a:spcPts val="1250"/>
              </a:spcAft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rategic: ‘know what to do when they don’t know what to do’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spcBef>
                <a:spcPts val="1250"/>
              </a:spcBef>
              <a:spcAft>
                <a:spcPts val="1250"/>
              </a:spcAft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Work well in team situations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spcBef>
                <a:spcPts val="1250"/>
              </a:spcBef>
              <a:spcAft>
                <a:spcPts val="1250"/>
              </a:spcAft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d-us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 new knowledge, not just passive consumers of information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spcBef>
                <a:spcPts val="1250"/>
              </a:spcBef>
              <a:spcAft>
                <a:spcPts val="1250"/>
              </a:spcAft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ake risks and try new things, mix and match, assemble, edit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spcBef>
                <a:spcPts val="1250"/>
              </a:spcBef>
              <a:spcAft>
                <a:spcPts val="1250"/>
              </a:spcAft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Self-critical diagnosticians – not needy of constant affirmation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spcBef>
                <a:spcPts val="1250"/>
              </a:spcBef>
              <a:spcAft>
                <a:spcPts val="1250"/>
              </a:spcAft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y 50/50 attention to learning goals and performance goals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90000"/>
              </a:lnSpc>
              <a:spcBef>
                <a:spcPts val="1250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6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2" name="Picture 2" descr="C:\Documents and Settings\mwl\Local Settings\Temporary Internet Files\Content.IE5\JQVMC2MF\MPj04394430000[1].jpg"/>
          <p:cNvPicPr/>
          <p:nvPr/>
        </p:nvPicPr>
        <p:blipFill>
          <a:blip r:embed="rId2"/>
          <a:stretch/>
        </p:blipFill>
        <p:spPr>
          <a:xfrm>
            <a:off x="5000760" y="1428840"/>
            <a:ext cx="414324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2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AU" sz="3600" spc="-1" strike="noStrike">
                <a:solidFill>
                  <a:srgbClr val="ff71e5"/>
                </a:solidFill>
                <a:latin typeface="Corbel"/>
              </a:rPr>
              <a:t>Learning and Performing: The Difference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3" descr="carol_dweck"/>
          <p:cNvPicPr/>
          <p:nvPr/>
        </p:nvPicPr>
        <p:blipFill>
          <a:blip r:embed="rId1"/>
          <a:stretch/>
        </p:blipFill>
        <p:spPr>
          <a:xfrm>
            <a:off x="1928880" y="2143080"/>
            <a:ext cx="556236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9T00:35:25Z</dcterms:created>
  <dc:creator>erica mcwilliam</dc:creator>
  <dc:description/>
  <dc:language>en-US</dc:language>
  <cp:lastModifiedBy>urbano maria</cp:lastModifiedBy>
  <dcterms:modified xsi:type="dcterms:W3CDTF">2011-05-25T23:28:19Z</dcterms:modified>
  <cp:revision>300</cp:revision>
  <dc:subject/>
  <dc:title>Women Learning Power</dc:title>
</cp:coreProperties>
</file>